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C02-BE18-4D94-9E86-6816F621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774-73E1-4593-81D3-C209C028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1F8-E913-46E5-9B8A-85B749B4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BD9-E1A1-4F96-846B-C6968174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F70D-0B21-449E-ACEC-539DE1F6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8363-9FB2-406B-A9B6-FA1F3ABB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93C8-42ED-4387-BBEA-0963763E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F78A-F0EB-45E6-9885-08B870B7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2EAD-8B7C-46DB-9D1E-F3CD8E88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359F-4BBB-4E50-A1C3-30E2E5FF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FAD9-ACD8-4B52-A336-06A3A32C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7E3-4769-40C2-B11E-0DF30170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22FD-62C6-49B4-BE97-5147F340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45D1-7D2F-40B0-B7CB-E24C7CE4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6647-ED27-46AE-A33D-BE291A45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DA9D-69E9-40AC-853F-DE562139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2C44-6CE6-4FB2-8175-4C9834E8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4E5-DB7E-4F10-8DA7-6AE1AD68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75E-D1C1-45D9-A5A6-C01BA2B2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DB7-2553-4A8B-837A-25F31B00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69C-2B88-4297-B47D-2587C5D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465-1F52-4AA1-9D00-69636FB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FA9-300D-4EF0-8AAE-33FBEBE6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E60-9FC2-46D9-B523-18433B4E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6A50-DC21-4092-8B74-CC02062FD1A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4152-E58E-4551-80BC-6073F97927A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ro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Lucas, Nathan and B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EEEEEEEEEN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Famous Perform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ch (1685–1750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hann Pachelbel (1653–1706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inrich Schütz (1585–1672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menico Scarlatti (1685–1757)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Example of Baro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483000" y="2924280"/>
            <a:ext cx="2178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649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Baroque Mus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In Baroque music there is a type called Fugu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Another style is Concer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8:17:28Z</dcterms:created>
  <dc:creator>IST</dc:creator>
  <dc:description/>
  <dc:language>en-US</dc:language>
  <cp:lastModifiedBy>IST</cp:lastModifiedBy>
  <dcterms:modified xsi:type="dcterms:W3CDTF">2007-09-25T08:35:38Z</dcterms:modified>
  <cp:revision>4</cp:revision>
  <dc:subject/>
  <dc:title>Baroque</dc:title>
</cp:coreProperties>
</file>