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F1E-9A2D-425C-8B50-BD2BBA86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18F-09F0-4F10-814A-9218073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2BA-AC14-48FC-ADA1-178220BD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F0-EE3D-470C-BE54-CC632EDC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BA6-895B-4586-A5BD-9C948A87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F5A2-239B-4EF4-8880-16146A94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F7BF-4138-4C7B-B379-19AAA7ED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5BFC-65B3-4427-9EB0-6B46A740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27A2-2F3B-4654-8FDD-2976C94C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FC89-BBC4-40C5-BE0C-24D136E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FE5C-4E4D-4DF1-85F0-BF83A6F6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B36-3072-4355-B190-0B28EC1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F19A-818D-4F84-B5A4-BF41242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FF4A-0B1B-4451-8A7E-CA0230B8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E4C0-3D5F-46C4-8A37-316F58C4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38D9-FAE6-43E9-9C27-509FCC4E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06D-9DED-4C92-A3F8-516F3C1B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8700-5FC1-483F-8431-8AB2C37C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A23-E721-46A7-A12B-5EC4E34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6F7-912D-486D-9C58-A4813389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9D1-293D-4433-B082-77ABC9FA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60B-710B-407D-A1F1-92EDC62D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6EB-6012-47EE-AFC7-AEC7FAA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5B5-D88B-49EE-B65F-7006C38F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7BA1-D08A-4009-8F1B-0020EAC966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D44-40B8-4D34-8FCD-8B08BCF2C7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as, Nathan and B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EEEEEEEEE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Famous Perform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h (1685–1750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ann Pachelbel (1653–1706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inrich Schütz (1585–167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menico Scarlatti (1685–1757)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Example of 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83000" y="2924280"/>
            <a:ext cx="2178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4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aroque Mus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In Baroque music there is a type called Fug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Another style is Concer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8:17:28Z</dcterms:created>
  <dc:creator>IST</dc:creator>
  <dc:description/>
  <dc:language>en-US</dc:language>
  <cp:lastModifiedBy>IST</cp:lastModifiedBy>
  <dcterms:modified xsi:type="dcterms:W3CDTF">2007-09-25T08:35:38Z</dcterms:modified>
  <cp:revision>4</cp:revision>
  <dc:subject/>
  <dc:title>Baroque</dc:title>
</cp:coreProperties>
</file>