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9CEB-EFF5-440F-8EA9-9B39025B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2A86-AD5E-4424-821D-6FE77F55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8C3C-C994-42D0-A733-2E8815E99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7662-1F28-42EE-9309-06765F227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F770-9686-463E-AEB2-D81AE9F3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365D-B50D-408C-99AF-8FB8AA44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2376-5279-4E32-86A2-B5FB945A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37F9-A163-4142-9174-AD4E4088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D1B7-435A-4A08-AA07-BC7957D8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38D4-317D-41D8-824C-85FEB5D0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9536-77A5-493E-B6D2-373681EC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4DB1-15F4-4B5B-B3A9-E12388C2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C6C8-A4D0-4FC4-A382-A978D37B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9C00-D979-4763-9F9E-870C23D1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D88A-E1B6-40D0-B1A9-B8484F7D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FAF0-76B5-41C4-8C00-29D528B9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9CE5-988B-4F69-8FE5-BE90F7089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7AA4-74F9-4504-AAC1-DFABC1DB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3337-558D-4EB8-8CF8-BECCC435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4816-5F99-4B13-AEF3-E67A5B9E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AC56-62CE-4975-B6FA-68C00EED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E11B-CD92-4EB9-AB63-1D7C0F0C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4034-B503-4F4C-BCE0-70820FF6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106F-0B85-474E-8F75-48A64743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460C-DF37-421B-BA15-9D119B45BB8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DB58-9E96-412D-AFD1-17BAACD9DAA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roqu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 Lucas, Nathan and Be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EEEEEEEEEN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Black"/>
              </a:rPr>
              <a:t>Famous Perform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ach (1685–1750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Johann Pachelbel (1653–1706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einrich Schütz (1585–1672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menico Scarlatti (1685–1757),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Black"/>
              </a:rPr>
              <a:t>Example of Baroqu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3483000" y="2924280"/>
            <a:ext cx="2178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0649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ypes of Baroque Music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 Black"/>
              </a:rPr>
              <a:t>In Baroque music there is a type called Fugu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 Black"/>
              </a:rPr>
              <a:t>Another style is Concerto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08:17:28Z</dcterms:created>
  <dc:creator>IST</dc:creator>
  <dc:description/>
  <dc:language>en-US</dc:language>
  <cp:lastModifiedBy>IST</cp:lastModifiedBy>
  <dcterms:modified xsi:type="dcterms:W3CDTF">2007-09-25T08:35:38Z</dcterms:modified>
  <cp:revision>4</cp:revision>
  <dc:subject/>
  <dc:title>Baroque</dc:title>
</cp:coreProperties>
</file>