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190-3770-43FE-A765-CAF4B9AB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9E4-2B52-4713-A833-BE173D48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4AA-EC4E-4B40-A8FF-A6F588A5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ED8-83C8-4D8D-8586-657C4520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AAD8-516C-41F3-A9FC-160C8B07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DCBC-447F-4C2D-9FC6-4AF6017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DAD6-FB0A-4D5C-8B1C-79CE3B41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028-3BD5-4F6E-87D9-6D00C20D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062-EB30-4C09-8DA5-86D1C0B6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0698-6B23-40BA-90D2-37E159E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0BEC-5AE2-424C-86A1-41C1BE19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0D79-8F0C-4F0C-8C20-0AB3CACA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A115-3198-40D3-B217-EEC069FA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1339-4A8D-4939-B635-3995C1FA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B35-EFF8-4926-AF59-06637DF3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84DA-AF1E-411B-9967-1691A9F8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EC39-C645-4C9F-959D-3F72E2B1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083-A2C9-4A9C-9A59-CEF8E74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E24F-3D39-4D01-A867-96EC30CF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509-3A2F-4D31-A9E7-FB05A265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7D8-C8BA-4577-A9E4-4BF40DB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D3D-9A77-45FC-803B-6102E9B5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2DD-A401-4370-B176-C13385E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6D9-2AD9-471F-B464-ED51686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B93-BF83-43B1-A453-5EC47CD25BA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01E9-CDC3-48BA-B546-8A3A7B137BA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y Lucas, Nathan and B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EEEEEEEEEN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Famous Perform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h (1685–1750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ohann Pachelbel (1653–1706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inrich Schütz (1585–1672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menico Scarlatti (1685–1757)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Example of Baro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483000" y="2924280"/>
            <a:ext cx="2178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64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Baroque Music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In Baroque music there is a type called Fugu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Another style is Concerto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08:17:28Z</dcterms:created>
  <dc:creator>IST</dc:creator>
  <dc:description/>
  <dc:language>en-US</dc:language>
  <cp:lastModifiedBy>IST</cp:lastModifiedBy>
  <dcterms:modified xsi:type="dcterms:W3CDTF">2007-09-25T08:35:38Z</dcterms:modified>
  <cp:revision>4</cp:revision>
  <dc:subject/>
  <dc:title>Baroque</dc:title>
</cp:coreProperties>
</file>