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1B724-5E39-4695-ACD1-8C1CAA4B8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BB4FF-20F0-4F87-893E-9E6ABC82E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7269B-B40E-4004-A04A-FFA825290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DDE8C-D269-46C3-938B-B998FF99A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3DB84-938A-42A3-956B-DF3EF13F0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3F766-4AC5-4C12-A17D-B95AF9AD0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637AB-EF87-497B-BD18-339AC6FEC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2BF84-9106-4AF5-B27B-AD1DAEB27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B5362-11F7-45E4-8021-057EA9336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F5407-79E3-427A-84E1-A4E256687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7FBC-2BED-4429-BD1E-3A3CC5684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638AB-24D0-4FFB-9A3F-673B877B0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1B208-286C-4119-B3B3-27B7EE1D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73B7F-E61B-4187-85F8-05445AF18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4ECA6-4FD3-4C64-A42D-6EF4E00C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8EF82-2ED9-4716-A405-C900D4A06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7C15F-BB24-4F21-B112-3BE371F17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8974F-F4DC-4951-86B4-90CEFA9A9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3010-7216-4A60-B25B-B092583EF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8DA8-0683-4708-A32A-289037300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D89D1-F27E-4204-808B-1F50DB6E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5A04-AB08-483A-8A74-DD08E2AA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4D557-0E24-4A11-A579-A1E37F56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6ACBF-ACB1-4429-A0E4-2E8B9C9E8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7088-6621-484C-B6D2-FBA377E493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ABB0-EB00-44D6-B005-3ED1655E279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a_cCBzXRg" TargetMode="External"/><Relationship Id="rId2" Type="http://schemas.openxmlformats.org/officeDocument/2006/relationships/hyperlink" Target="http://www.youtube.com/watch?v=K4fbD0YBSZQ"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ana Krall</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y Jack Barnett</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90720"/>
            <a:ext cx="447696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Early life</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a Krall is a singer-songwriter from Canada. Krall’s life was never without the sounds of music. She was born in to a musical family in 1964 and she began to learn the piano at the age of four. By the age of 15 she began playing in a small jazz group with some of her friends from school, they would regularly play at local restaurants. When she was 17 she won a three term scholarship to study at the Berklee college of music in boston, the scholarship was received from the Vancouver International Jazz Festi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Later life</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her hometown, Nanaimo, Krall’s performances began to attract some attention from one or two famous jazz players, Ray Brown and Jeff Hamilton. They persuaded her to move to LA so that she would be able to study with pianist Jimmy Rowles. She moved to newyork in 1990 after having secured a contrac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ll got married to Elvis Costello in 2003 at Sir Elton John’s estate just outside of London, they have two children toge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Her Music</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400" spc="-1" strike="noStrike">
                <a:solidFill>
                  <a:srgbClr val="000000"/>
                </a:solidFill>
                <a:latin typeface="Arial"/>
              </a:rPr>
              <a:t>From 1993 to 2001 Krall released several albums of covered songs by famous jazz musicians. Though in 2004, after having married Elvis Castello, she began to work on her own compositions and began to work as a lyricist. The result was the album titled “girl in the other room”, the album made it to the top five in England and top forty in Australia. The album featured a cover of “Temptation” by Tom wait’s.  The track reached number one on the world jazz charts featuring songs from all over the wor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wards </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Krall was given the Order of British Columbia in 2001, an award given by the governor for out sanding achievement. She received an honorary PHD in fine arts from the university of Victoria in 2004. that same year she was also inducted in to Canada's Walk of Fame. In 2005 she was created into an Officer of the Order of Canada, the highest civilian honor within the Canadian honorary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Facts</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years she has released thirteen albums and two DVD’s on seven different labels, most recently including a greatest hits albu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he has two twin children with Elvis Castell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en-US" sz="2800" spc="-1" strike="noStrike">
                <a:solidFill>
                  <a:srgbClr val="000000"/>
                </a:solidFill>
                <a:latin typeface="Arial"/>
              </a:rPr>
              <a:t>She is also a head board member of the Multiple Myeloma Research Foundation, as her mother died from the disease  in 200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Some songs </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Just the way you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youtube.com/watch?v=V-a_cCBzX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2"/>
              </a:rPr>
              <a:t>http://www.youtube.com/watch?v=K4fbD0YBSZQ</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276720" y="1981080"/>
            <a:ext cx="2666880" cy="224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Parchment"/>
              </a:rPr>
              <a:t>End</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Parchment"/>
              <a:ea typeface="Parchment"/>
            </a:endParaRPr>
          </a:p>
        </p:txBody>
      </p:sp>
      <p:sp>
        <p:nvSpPr>
          <p:cNvPr id="111" name=""/>
          <p:cNvSpPr/>
          <p:nvPr/>
        </p:nvSpPr>
        <p:spPr>
          <a:xfrm>
            <a:off x="838080" y="54100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Barnett</cp:lastModifiedBy>
  <dcterms:modified xsi:type="dcterms:W3CDTF">2007-09-12T07:59:5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