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6E9FB-AB0F-41AF-A559-C15665FD7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EFCF2-02C7-4FE6-A915-58EE3B52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FBA1-F2F9-4DB2-8EA1-0339DFEAD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D1595-C6CB-416A-AA2E-FF77C6BC1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C7516-F0EB-4450-AE91-C0D2DD67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D8A95-5C06-464B-928D-F02441C3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F52A2-A045-436C-851C-A4B82383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29DA9-CA9F-45EA-8602-20EFE1137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EF294-E074-4C29-A00E-6A57D05BC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40AC-59B4-4A1F-854E-EF4B33E50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7BFE-6083-4C78-95D7-FBFE9DF0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3643-50BE-4A2A-A1E1-042D7CAB6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86CC-8D4A-4B42-8C27-B84424A2139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By G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 short biography</a:t>
            </a:r>
            <a:endParaRPr b="0" lang="en-US" sz="4400" spc="-1" strike="noStrike">
              <a:solidFill>
                <a:srgbClr val="000000"/>
              </a:solidFill>
              <a:latin typeface="Calibri"/>
            </a:endParaRPr>
          </a:p>
        </p:txBody>
      </p:sp>
      <p:pic>
        <p:nvPicPr>
          <p:cNvPr id="44" name="Content Placeholder 3" descr="8804_426x104.jpg"/>
          <p:cNvPicPr/>
          <p:nvPr/>
        </p:nvPicPr>
        <p:blipFill>
          <a:blip r:embed="rId1"/>
          <a:stretch/>
        </p:blipFill>
        <p:spPr>
          <a:xfrm>
            <a:off x="4857840" y="1214280"/>
            <a:ext cx="4057560" cy="990720"/>
          </a:xfrm>
          <a:prstGeom prst="rect">
            <a:avLst/>
          </a:prstGeom>
          <a:ln w="0">
            <a:noFill/>
          </a:ln>
        </p:spPr>
      </p:pic>
      <p:sp>
        <p:nvSpPr>
          <p:cNvPr id="45" name="TextBox 4"/>
          <p:cNvSpPr/>
          <p:nvPr/>
        </p:nvSpPr>
        <p:spPr>
          <a:xfrm>
            <a:off x="285840" y="2000160"/>
            <a:ext cx="4429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py Mondays and the Stone Roses were the leaders of the late 80s and early 90s. Their style is some kind of Dance Club, and influenced Manchester scene. They had a brief moment in the spotlight before collapsing in 1992. Happy Mondays immersed themselves in the club and rave culture, eventually becoming the most recognizable band of that drug-fueled scene. The Mondays' music relied heavily on the sound and rhythm of house music, spiked with '70s soul licks and swirling '60s psychedelia. It was bright, colorful music that had fractured melodies that never quite gelled into cohesive songs.</a:t>
            </a:r>
            <a:endParaRPr b="0" lang="en-US" sz="1800" spc="-1" strike="noStrike">
              <a:solidFill>
                <a:srgbClr val="000000"/>
              </a:solidFill>
              <a:latin typeface="Arial"/>
            </a:endParaRPr>
          </a:p>
        </p:txBody>
      </p:sp>
      <p:sp>
        <p:nvSpPr>
          <p:cNvPr id="46" name="TextBox 5"/>
          <p:cNvSpPr/>
          <p:nvPr/>
        </p:nvSpPr>
        <p:spPr>
          <a:xfrm>
            <a:off x="5072040" y="2428920"/>
            <a:ext cx="3714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What about them?</a:t>
            </a:r>
            <a:endParaRPr b="0" lang="en-US" sz="4400" spc="-1" strike="noStrike">
              <a:solidFill>
                <a:srgbClr val="000000"/>
              </a:solidFill>
              <a:latin typeface="Calibri"/>
            </a:endParaRPr>
          </a:p>
        </p:txBody>
      </p:sp>
      <p:sp>
        <p:nvSpPr>
          <p:cNvPr id="48" name=""/>
          <p:cNvSpPr txBox="1"/>
          <p:nvPr/>
        </p:nvSpPr>
        <p:spPr>
          <a:xfrm>
            <a:off x="456840" y="1600200"/>
            <a:ext cx="30430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hey have done a total of 14 albums and 19 singles. He is a list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thing I could say would be the fact that they have a really strong manchesterian weird accent, and that it is very hard to understand it (After having watched a lot of videos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TextBox 3"/>
          <p:cNvSpPr/>
          <p:nvPr/>
        </p:nvSpPr>
        <p:spPr>
          <a:xfrm>
            <a:off x="3714840" y="1571760"/>
            <a:ext cx="50004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irrel and G-Man Twenty Four Hour Party People Plastic Face Carnt Smile (White Out) (1987, FACT 17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med (1988, FACT 2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elujah (1989, FACT 2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a:t>
            </a:r>
            <a:r>
              <a:rPr b="0" lang="en-US" sz="1200" spc="-1" strike="noStrike">
                <a:solidFill>
                  <a:srgbClr val="000000"/>
                </a:solidFill>
                <a:latin typeface="Calibri"/>
              </a:rPr>
              <a:t>1989</a:t>
            </a:r>
            <a:r>
              <a:rPr b="0" lang="en-US" sz="1200" spc="-1" strike="noStrike">
                <a:solidFill>
                  <a:srgbClr val="000000"/>
                </a:solidFill>
                <a:latin typeface="Arial"/>
              </a:rPr>
              <a:t> (1990) #7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n' Thrills and Bellyaches (1990, FACT 320) #4 UK, #89 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1991, FACT 322) #2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1991 (199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Please! (1992, FACT 420) #1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Easy - The U.S. Singles (199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1995) #4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Hits (1999) #1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 - Live In Barcelona (2005) #19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inum Collection (2005) #1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e Dysfunktional (2007) #73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cts and Memb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py Mondays songs were always written by the group as a whole, and by the time Rowetta joined in 1990 there were seven members. At best, Bez and Rowetta will each receive a mere seventh of any proceeds from the record sales - and as they were the dancer and backing singer, the true figure could be much less. </a:t>
            </a:r>
            <a:br>
              <a:rPr sz="1400"/>
            </a:br>
            <a:br>
              <a:rPr sz="1400"/>
            </a:br>
            <a:r>
              <a:rPr b="0" lang="en-US" sz="1400" spc="-1" strike="noStrike">
                <a:solidFill>
                  <a:srgbClr val="000000"/>
                </a:solidFill>
                <a:latin typeface="Calibri"/>
              </a:rPr>
              <a:t>Happy Mondays albums were originally released by Manchester's famous Factory records. But when that crashed with huge debts more than a decade ago, the rights to all Factory's back catalogue were purchased by London Records, which will now benefit from the increased interest. </a:t>
            </a:r>
            <a:br>
              <a:rPr sz="1400"/>
            </a:br>
            <a:br>
              <a:rPr sz="1400"/>
            </a:br>
            <a:r>
              <a:rPr b="0" lang="en-US" sz="1400" spc="-1" strike="noStrike">
                <a:solidFill>
                  <a:srgbClr val="000000"/>
                </a:solidFill>
                <a:latin typeface="Calibri"/>
              </a:rPr>
              <a:t>London Records, owned by the giant Warner Music, can now make a lot of money from the Happy Mondays, even though it never employed the band. </a:t>
            </a:r>
            <a:br>
              <a:rPr sz="1400"/>
            </a:br>
            <a:br>
              <a:rPr sz="1400"/>
            </a:br>
            <a:r>
              <a:rPr b="0" lang="en-US" sz="1400" spc="-1" strike="noStrike">
                <a:solidFill>
                  <a:srgbClr val="000000"/>
                </a:solidFill>
                <a:latin typeface="Calibri"/>
              </a:rPr>
              <a:t>Bez's and Rowetta's return to the public eye is the latest in a varied series of ventures by members of the Happy Mondays. </a:t>
            </a:r>
            <a:br>
              <a:rPr sz="1400"/>
            </a:br>
            <a:br>
              <a:rPr sz="1400"/>
            </a:br>
            <a:r>
              <a:rPr b="0" lang="en-US" sz="1400" spc="-1" strike="noStrike">
                <a:solidFill>
                  <a:srgbClr val="000000"/>
                </a:solidFill>
                <a:latin typeface="Calibri"/>
              </a:rPr>
              <a:t>Former singer and frontman Shaun Ryder went on to form Black Grape with Bez and former members of other Mancunian bands. Black Grape fell apart in 1998, when Shaun re-formed the Happy Mondays for two years. </a:t>
            </a:r>
            <a:br>
              <a:rPr sz="1400"/>
            </a:br>
            <a:br>
              <a:rPr sz="1400"/>
            </a:br>
            <a:r>
              <a:rPr b="0" lang="en-US" sz="1400" spc="-1" strike="noStrike">
                <a:solidFill>
                  <a:srgbClr val="000000"/>
                </a:solidFill>
                <a:latin typeface="Calibri"/>
              </a:rPr>
              <a:t>Bassist Paul Ryder and drummer Gaz Whelan formed the band Buffalo 66, but did not hit the big time. </a:t>
            </a:r>
            <a:br>
              <a:rPr sz="1400"/>
            </a:br>
            <a:br>
              <a:rPr sz="1400"/>
            </a:br>
            <a:r>
              <a:rPr b="0" lang="en-US" sz="1400" spc="-1" strike="noStrike">
                <a:solidFill>
                  <a:srgbClr val="000000"/>
                </a:solidFill>
                <a:latin typeface="Calibri"/>
              </a:rPr>
              <a:t>Guitarist Mark Day teamed up with eccentric Manchester artist-musician Edward Barton in 1997, and keyboard player Paul Davis worked with Rowet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3:35:34Z</dcterms:created>
  <dc:creator>Guillermo</dc:creator>
  <dc:description/>
  <dc:language>en-US</dc:language>
  <cp:lastModifiedBy>Guillermo</cp:lastModifiedBy>
  <dcterms:modified xsi:type="dcterms:W3CDTF">2007-09-11T19:06:17Z</dcterms:modified>
  <cp:revision>6</cp:revision>
  <dc:subject/>
  <dc:title>Happy Mondays</dc:title>
</cp:coreProperties>
</file>